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3DC-C574-40CD-8BE0-F02B6E91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A04-1344-4AD4-A1DF-4E0F1441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FA7-F806-4ABF-8BD2-6C6D422F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07B-7744-43BE-AD57-DAABCC60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CB7-B08F-4ED0-8818-C797DB41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C8D-D6D3-492B-A3A7-CFF95BBB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7D6-0084-4A03-BA44-84F18F74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95B-3BDC-41D7-9615-9D58C31A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373-C767-4F9A-A053-09028C89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CF5-B58D-456E-B169-145DC830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AC0-31D8-4497-8AE2-C13139E7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296-3B87-4752-9BCC-61B7B186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A68B-AC61-4908-8CED-5B26071EF3E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Harrington"/>
                <a:ea typeface="Calibri"/>
              </a:rPr>
              <a:t>VABILO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Zabava, smeh in razveseljevanje bližnjih v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jo življenjsko sr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Življenje je lovljenje ravnotežja med odgovornostmi, delom, po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itkom in zabav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Vse ima svoje mesto v velikem zemljevidu življenja. Zato se je treba nagraditi s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som za zabav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Ta te napolni z energijo, ki jo potrebuješ, da se sr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 lahko obnavlja.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Zato te prisr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no vabim, da se poveseliš z mano - ob mojem prihajajo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em 40. rojstnem dnevu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 </a:t>
            </a:r>
            <a:br>
              <a:rPr sz="1800"/>
            </a:b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dne 23. oktobra 2014 ob 14.10 minut.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Se dobimo na parkiriš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u za osnovnošolsko šolo in skupaj odidemo v neznano.</a:t>
            </a:r>
            <a:br>
              <a:rPr sz="1800"/>
            </a:br>
            <a:r>
              <a:rPr b="1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 </a:t>
            </a:r>
            <a:br>
              <a:rPr sz="1800"/>
            </a:br>
            <a:r>
              <a:rPr b="1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Melita Žlajpa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dcterms:modified xsi:type="dcterms:W3CDTF">2014-10-13T09:35:48Z</dcterms:modified>
  <cp:revision>27</cp:revision>
  <dc:subject/>
  <dc:title>TITLE</dc:title>
</cp:coreProperties>
</file>